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D325-7A7A-4218-9E12-F9813C570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4DD3-22C5-4F4F-BB35-7B9B23BF0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3EB1-2D99-402C-AA09-C260E992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27D7-324B-455F-8928-C36165A1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17BB-EF4B-41DB-9647-90A104AA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BFD4-7E39-49C9-AB09-6B82F2CF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FA6F-D477-4484-AF0D-9B0686AE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3597B-6E97-4542-8754-DFD2AED3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3B50F-A545-4E8E-8203-75A8F241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C10D8-F562-466B-BB2F-3655BC86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7C0DD-9102-4913-8603-B9439766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49AA6-33F5-4CE1-841D-E877B8D5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F617-0EEB-42BC-A07D-A3BB8C79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D9EA2-EE14-4D19-9536-AE24578B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820C2-0F72-46DC-829B-D2DE6F82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99A26-C2E2-4567-B04B-BE30DDB7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1AB55-9A5B-4275-B9D2-EF8C799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A1E98-67AA-4377-9E8E-89132772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EEB4B-301A-4B84-8416-E22AE6DC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60357-AD4F-49EB-AB65-DFE55526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2158FC-2E8D-473E-BB54-17894D63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D4A69C-DF85-446F-9864-82959469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7A32B-68C3-44C4-BEA8-DAD96085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225F-1DF2-41CF-A6FD-CBF1AEF5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D55ABA-A49F-440B-913A-E4B19D8C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662C11-0127-45A2-BD78-79105A48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DDA0D-77F8-42A6-AE79-72048860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6D174C-BFA6-4224-8AB9-9812D9B7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1F34CE-CBB3-49AB-A5C4-F2CFCEDA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FF2268-1818-4685-9495-1D686FA0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59C1A0-2360-4F39-ABB2-F5819A75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41FB13-8C85-4A29-8424-25C46F3E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305D01-E343-43C7-9374-1DBB566B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945A-B969-412B-B3E5-36822B3E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0FAD-E497-45DB-824E-D638D8C3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3EE6-E7D1-44E2-80A8-3D510C59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CF23-C8EB-4343-BED9-8BCB90EA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A674-8A42-47DB-A97C-006CB364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C415-5B6F-443B-8F6F-B03FDD539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3301-287D-4793-81AA-BA42D74CA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B54C-2BB0-4813-9697-F8FC9C6CBB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5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5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E11B-1053-4D86-847F-AE95EFAD36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RMS Update to TAC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e 26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ay 14 RMS Meeting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 PPL Funds 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MS approved the release of $2.27M from the RO PP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Nodal, only three projects from RO PPL will be worked in 2008 and the rest will be deferred t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00040" y="3992400"/>
            <a:ext cx="6343920" cy="10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of June 3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333440" y="762120"/>
            <a:ext cx="64771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ass Transition Update for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AC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71600" y="15192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ffective with TX SET v.3.0 -- Mass Transition Timeline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905A-16A1-4161-A364-B4EFD8FC1F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"/>
          <p:cNvSpPr/>
          <p:nvPr/>
        </p:nvSpPr>
        <p:spPr>
          <a:xfrm>
            <a:off x="8305920" y="38862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1143000" y="4343400"/>
            <a:ext cx="7620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>
            <a:off x="1066680" y="38862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438280" y="4114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990720" y="4343400"/>
            <a:ext cx="609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y   -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33720" y="44956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6019920" y="4343400"/>
            <a:ext cx="38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1828800" y="5562720"/>
            <a:ext cx="62485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 transition should be completed in no more tha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lendar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76320" y="1219320"/>
            <a:ext cx="2057400" cy="946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fault Confirmed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Notification Email Sent by ERCOT to M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1371600" y="2286000"/>
            <a:ext cx="2286000" cy="844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ket C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14_03s Sent Requesting          2nd Calenda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3733920" y="2133720"/>
            <a:ext cx="1752480" cy="159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14_04s from TDSP to ERC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14_14s from ERCOT to POLR C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torical Us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4648320" y="37339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6477120" y="4114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4572000" y="4495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>
            <a:off x="2133720" y="3124080"/>
            <a:ext cx="304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6"/>
          <p:cNvSpPr/>
          <p:nvPr/>
        </p:nvSpPr>
        <p:spPr>
          <a:xfrm flipH="1">
            <a:off x="1066320" y="4952880"/>
            <a:ext cx="54104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8"/>
          <p:cNvSpPr/>
          <p:nvPr/>
        </p:nvSpPr>
        <p:spPr>
          <a:xfrm flipV="1" rot="10800000">
            <a:off x="5633640" y="1371240"/>
            <a:ext cx="169236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nsition Dat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DSP performs Field Meter Reads or Estimate                 Off-Cycle Switches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 Information Distributed by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3"/>
          <p:cNvSpPr/>
          <p:nvPr/>
        </p:nvSpPr>
        <p:spPr>
          <a:xfrm>
            <a:off x="640080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6"/>
          <p:cNvSpPr/>
          <p:nvPr/>
        </p:nvSpPr>
        <p:spPr>
          <a:xfrm>
            <a:off x="152280" y="4343400"/>
            <a:ext cx="8384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lendar D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7"/>
          <p:cNvSpPr/>
          <p:nvPr/>
        </p:nvSpPr>
        <p:spPr>
          <a:xfrm>
            <a:off x="4648320" y="4114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0"/>
          <p:cNvSpPr/>
          <p:nvPr/>
        </p:nvSpPr>
        <p:spPr>
          <a:xfrm>
            <a:off x="822960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1"/>
          <p:cNvSpPr/>
          <p:nvPr/>
        </p:nvSpPr>
        <p:spPr>
          <a:xfrm flipV="1" rot="10800000">
            <a:off x="7545240" y="2610000"/>
            <a:ext cx="1449360" cy="63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67_03 F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67_04 Ini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>
            <a:off x="6477120" y="3809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3"/>
          <p:cNvSpPr/>
          <p:nvPr/>
        </p:nvSpPr>
        <p:spPr>
          <a:xfrm>
            <a:off x="8001000" y="32767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4"/>
          <p:cNvSpPr/>
          <p:nvPr/>
        </p:nvSpPr>
        <p:spPr>
          <a:xfrm>
            <a:off x="1066680" y="4038480"/>
            <a:ext cx="663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5"/>
          <p:cNvSpPr/>
          <p:nvPr/>
        </p:nvSpPr>
        <p:spPr>
          <a:xfrm>
            <a:off x="1044360" y="414504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6"/>
          <p:cNvSpPr/>
          <p:nvPr/>
        </p:nvSpPr>
        <p:spPr>
          <a:xfrm>
            <a:off x="2590920" y="41450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7"/>
          <p:cNvSpPr/>
          <p:nvPr/>
        </p:nvSpPr>
        <p:spPr>
          <a:xfrm>
            <a:off x="4602600" y="414504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8"/>
          <p:cNvSpPr/>
          <p:nvPr/>
        </p:nvSpPr>
        <p:spPr>
          <a:xfrm>
            <a:off x="6449760" y="414504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9"/>
          <p:cNvSpPr/>
          <p:nvPr/>
        </p:nvSpPr>
        <p:spPr>
          <a:xfrm>
            <a:off x="8295120" y="414504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0"/>
          <p:cNvSpPr/>
          <p:nvPr/>
        </p:nvSpPr>
        <p:spPr>
          <a:xfrm flipH="1">
            <a:off x="1066320" y="5105520"/>
            <a:ext cx="72392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3"/>
          <p:cNvSpPr/>
          <p:nvPr/>
        </p:nvSpPr>
        <p:spPr>
          <a:xfrm>
            <a:off x="1066680" y="22096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6"/>
          <p:cNvSpPr/>
          <p:nvPr/>
        </p:nvSpPr>
        <p:spPr>
          <a:xfrm flipH="1">
            <a:off x="2437920" y="4724280"/>
            <a:ext cx="40388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ss Transition Upd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Buy Transition: 8430 ESI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% Complete in 2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Power Transition:  150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% Complete in 2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wy 3 Transition:  122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% Complete in 2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way Transition:62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% Complete in 2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100% Complete as of 6/24/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MS and ERCOT held a lesson learned workshop on June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s raised inclu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fying CRs with pending switches that their customer is going to be dropped to POL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using Move-Ins to get customers off POLR as quickly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get LIDA information to all CRs for POLR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its June meeting, Texas SET redlined the Mass Transition section of the Retail Market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review again at July meeting and then sub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9528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38:37Z</dcterms:created>
  <dc:creator>kfarley</dc:creator>
  <dc:description/>
  <dc:language>en-US</dc:language>
  <cp:lastModifiedBy>Direct Energy</cp:lastModifiedBy>
  <dcterms:modified xsi:type="dcterms:W3CDTF">2008-06-25T21:12:09Z</dcterms:modified>
  <cp:revision>71</cp:revision>
  <dc:subject/>
  <dc:title>Slide 1</dc:title>
</cp:coreProperties>
</file>